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36F2-145E-41CD-A631-D942778EE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tology design issue: create a term for  every cell in matrix? or just for every column and row and link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tology design issue: create a term for  every cell in matrix? or just for every column and row and link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DF9-D11B-4C3E-A6B4-432D9144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879-F47E-4BB8-8165-16DF7E7F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5A0-D584-40B0-B8DB-95409A1B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EB7-DEAC-4303-A5B5-16D3C201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CE3-EA5D-4B69-85D1-0E852F38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F15-1ED7-49D9-8FF1-4F300465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B16-B6A8-432D-A9C0-9E32EF2B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2E3-AB34-4CC9-B579-A37D0721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8CFC-ACF7-45B1-966F-4F07AC49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C98-5A90-4F17-B9EA-29B03174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473-CB23-494C-BBE8-ADE2DB49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3FB-4850-4A02-BF90-DB22B0F2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2D50-1E37-4B25-82B7-5A35C4B2D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oposed formal definition of a stag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part of 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lifetime even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an ent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fetime event of a cell (e.g. cell cycle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fetime event of an organism (e.g. developmenta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development stage boundaries are typically </a:t>
            </a: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fia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ages are therefor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occurren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bdivisions of lifetime event on time ax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4D entit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e could tak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"/>
              </a:rPr>
              <a:t>video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of a stag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trast with anatomical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continuan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cells, organisms, organ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e could tak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"/>
              </a:rPr>
              <a:t>photo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of a continuan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tinuants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participate in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stag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ships between stag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ubstages can be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superstag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gmentation:14_somite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Segmentation:14-19_somit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tage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preceded_by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other stag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2nd instar larval stag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receded_b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1st instar larval st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ship between continuants and stag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rganism (continuant) participates in its lifetime event (occurrent) throughout its entire existen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s of the organism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uring different s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neural plate </a:t>
            </a: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starts_during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Segmentation:14-19_somit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ote: not necessarily formation of a new entity - may be a single entity ‘e’ instantiating different types during different stages (transformation_of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ccounting for vari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can’t always pin down the stage at which an anatomical entity type is first (or last) instantiat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tural variation between organis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variation between subtype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lution: new rel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tarts_during_or_aft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ends_during_or befo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1523880"/>
          <a:ext cx="8534520" cy="3810240"/>
        </p:xfrm>
        <a:graphic>
          <a:graphicData uri="http://schemas.openxmlformats.org/drawingml/2006/table">
            <a:tbl>
              <a:tblPr/>
              <a:tblGrid>
                <a:gridCol w="1518120"/>
                <a:gridCol w="216000"/>
                <a:gridCol w="512640"/>
                <a:gridCol w="525240"/>
                <a:gridCol w="523800"/>
                <a:gridCol w="523440"/>
                <a:gridCol w="525240"/>
                <a:gridCol w="523800"/>
                <a:gridCol w="525240"/>
                <a:gridCol w="523800"/>
                <a:gridCol w="523440"/>
                <a:gridCol w="525240"/>
                <a:gridCol w="523800"/>
                <a:gridCol w="525240"/>
                <a:gridCol w="519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resumptive spinal 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neural pl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neural ke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neural r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neural tu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pinal 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265760" y="45720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Blastula: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762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08000" y="45720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762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42320" y="152280"/>
            <a:ext cx="19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Gastrula:90%-epib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457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4360" y="60948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Gastrula:B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914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11080" y="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Seg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04360" y="15228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Pharyngula:Prim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457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64520" y="838080"/>
            <a:ext cx="11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5-9 som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7000" y="45720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10-13 som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4200" y="83808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14-19 som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762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066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4648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038480"/>
            <a:ext cx="152280" cy="152640"/>
          </a:xfrm>
          <a:prstGeom prst="upArrow">
            <a:avLst>
              <a:gd name="adj1" fmla="val 50000"/>
              <a:gd name="adj2" fmla="val 2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3505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5909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048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6477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0120" y="640080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ransformation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586728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ill Sans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541008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ill San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6600" y="60199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starts_during_or_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0840" y="556272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ends_during_or_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nferring process relationship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4648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038480"/>
            <a:ext cx="152280" cy="152640"/>
          </a:xfrm>
          <a:prstGeom prst="upArrow">
            <a:avLst>
              <a:gd name="adj1" fmla="val 50000"/>
              <a:gd name="adj2" fmla="val 2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505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5909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048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20" y="2209680"/>
            <a:ext cx="24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resumptive spinal 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6400" y="2743200"/>
            <a:ext cx="13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9720" y="320040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k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9440" y="3657600"/>
            <a:ext cx="11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r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1800" y="41911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1880" y="48769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pinal 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477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120" y="640080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ransformation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16765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7560" y="4343400"/>
            <a:ext cx="228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0600" y="373392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1676160" y="4419360"/>
            <a:ext cx="2438280" cy="1522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676160" y="3962520"/>
            <a:ext cx="4647960" cy="3808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2971800"/>
            <a:ext cx="23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68880" y="228600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1599840" y="2971440"/>
            <a:ext cx="2438280" cy="1522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600200" y="2514600"/>
            <a:ext cx="4648320" cy="3808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133360" y="6553080"/>
            <a:ext cx="106668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07440" y="6248520"/>
            <a:ext cx="130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has_particip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56228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440" y="56386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95880" y="4038120"/>
            <a:ext cx="533520" cy="38124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943600" y="25909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886200" y="62485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87880" y="63244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art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029200" y="3429000"/>
            <a:ext cx="76320" cy="83808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257800" y="6019560"/>
            <a:ext cx="0" cy="53316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91600" y="6324480"/>
            <a:ext cx="110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receded_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1523880"/>
          <a:ext cx="8381880" cy="2438640"/>
        </p:xfrm>
        <a:graphic>
          <a:graphicData uri="http://schemas.openxmlformats.org/drawingml/2006/table">
            <a:tbl>
              <a:tblPr/>
              <a:tblGrid>
                <a:gridCol w="1491120"/>
                <a:gridCol w="216000"/>
                <a:gridCol w="500040"/>
                <a:gridCol w="515880"/>
                <a:gridCol w="514080"/>
                <a:gridCol w="514080"/>
                <a:gridCol w="515520"/>
                <a:gridCol w="514440"/>
                <a:gridCol w="517320"/>
                <a:gridCol w="514080"/>
                <a:gridCol w="514080"/>
                <a:gridCol w="515520"/>
                <a:gridCol w="514440"/>
                <a:gridCol w="515520"/>
                <a:gridCol w="50976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50920" y="586728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ill Sans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541008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ill San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6600" y="60199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starts_during_or_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840" y="556272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ends_during_or_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09480" y="2743200"/>
            <a:ext cx="0" cy="45720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6240" y="48769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art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11760" y="453852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3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Y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4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Y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67680" y="5943600"/>
            <a:ext cx="31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ur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3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71080" y="541008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6:34:38Z</dcterms:created>
  <dc:creator>Chris Mungall</dc:creator>
  <dc:description/>
  <dc:language>en-US</dc:language>
  <cp:lastModifiedBy>Chris Mungall</cp:lastModifiedBy>
  <dcterms:modified xsi:type="dcterms:W3CDTF">2006-09-09T00:40:27Z</dcterms:modified>
  <cp:revision>673</cp:revision>
  <dc:subject/>
  <dc:title>Ontologies for biological annotation</dc:title>
</cp:coreProperties>
</file>